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743-62BF-4CB3-A8CD-F2AA7C4E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950-F205-4950-BC0B-89B9E14B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B672-FE92-4663-AAD0-BFB99111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FA5-E063-457B-8318-7A3DC4CD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BE48-E41D-486D-96E4-649EBD94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34BE-719C-4DE5-907A-A88048E7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D9D5-F11B-4CD8-8A57-19FBE791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C095-CE05-4A04-B2A2-160CC5CC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83FAD-74A5-42EF-920C-C0DA8737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B4F1-4F46-4F59-B41D-D31300B0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5070-6AFE-4EDC-958F-8002B6C7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A10A-6711-4197-B152-B39BA430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9DE5-E93E-4B43-98B9-C1228C53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5EE0-0180-4CF3-AA8A-40112381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8FBA-4BE1-4763-807B-989ED904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0088-DD71-454B-99BE-7250A36C0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357A-CA6C-40E1-AE95-EB95F3BD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928-9473-44A2-BC89-EC654360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D64-876B-4BFC-9989-60E4FD89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0167-FDA1-46AC-B26A-489A87E5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EA3-DDBF-4889-A5A5-9C5D0549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B9D-3DE6-46BB-A6B5-85297622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A51-874E-4401-ACAF-523C63D0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CAC0-F3C7-42FC-AB0A-7483E866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814E-FB09-475A-BD88-4C702731F28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FA52-CA5C-4535-BEE5-350A78EDC8F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3.xml"/><Relationship Id="rId9" Type="http://schemas.openxmlformats.org/officeDocument/2006/relationships/slide" Target="slide19.xml"/><Relationship Id="rId10" Type="http://schemas.openxmlformats.org/officeDocument/2006/relationships/slide" Target="slide22.xml"/><Relationship Id="rId11" Type="http://schemas.openxmlformats.org/officeDocument/2006/relationships/slide" Target="slide25.xml"/><Relationship Id="rId12" Type="http://schemas.openxmlformats.org/officeDocument/2006/relationships/slide" Target="slide28.xml"/><Relationship Id="rId13" Type="http://schemas.openxmlformats.org/officeDocument/2006/relationships/slide" Target="slide31.xml"/><Relationship Id="rId14" Type="http://schemas.openxmlformats.org/officeDocument/2006/relationships/slide" Target="slide3.xml"/><Relationship Id="rId15" Type="http://schemas.openxmlformats.org/officeDocument/2006/relationships/slide" Target="slide3.xml"/><Relationship Id="rId16" Type="http://schemas.openxmlformats.org/officeDocument/2006/relationships/slide" Target="slide3.xml"/><Relationship Id="rId17" Type="http://schemas.openxmlformats.org/officeDocument/2006/relationships/slide" Target="slide3.xml"/><Relationship Id="rId18" Type="http://schemas.openxmlformats.org/officeDocument/2006/relationships/slide" Target="slide3.xml"/><Relationship Id="rId19" Type="http://schemas.openxmlformats.org/officeDocument/2006/relationships/slide" Target="slide3.xml"/><Relationship Id="rId20" Type="http://schemas.openxmlformats.org/officeDocument/2006/relationships/slide" Target="slide3.xml"/><Relationship Id="rId21" Type="http://schemas.openxmlformats.org/officeDocument/2006/relationships/slide" Target="slide3.xml"/><Relationship Id="rId22" Type="http://schemas.openxmlformats.org/officeDocument/2006/relationships/slide" Target="slide3.xml"/><Relationship Id="rId23" Type="http://schemas.openxmlformats.org/officeDocument/2006/relationships/slide" Target="slide3.xml"/><Relationship Id="rId24" Type="http://schemas.openxmlformats.org/officeDocument/2006/relationships/slide" Target="slide3.xml"/><Relationship Id="rId2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648320" cy="360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"/>
          <p:cNvSpPr txBox="1"/>
          <p:nvPr/>
        </p:nvSpPr>
        <p:spPr>
          <a:xfrm rot="20578200">
            <a:off x="761760" y="4191120"/>
            <a:ext cx="75438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Your Classroom Edition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Orlicks reason for seeking revenge on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claimed that Pip came between him and his love.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 dare you com between me and a young woman I liked?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Orlick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ere does Pip pick Magwitch up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ara’s Hou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did they know that Pip was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y found a mysterious note addressed to Pip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was in the group that comes to save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rbert, Startop, and Trabb’s 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does Orlick confess to doing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illing Mrs. Jo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is the promise that Pip makes to Magwitch before he is taken away to jail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Question 1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promises to stand by him, he say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will never stir from your side, when I am suffered to be near you. Please God, I will be as true to you as you have been to me!”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does magwitch attack from the rowboat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2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mpeys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Questio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5th Grade Questio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th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4th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rd Grad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3r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nd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2nd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st Grade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1st Grade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>
            <a:hlinkClick r:id="rId23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1143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e1ff"/>
                </a:solidFill>
                <a:latin typeface="Arial"/>
              </a:rPr>
              <a:t>TEAM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248520" y="1143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e1ff"/>
                </a:solidFill>
                <a:latin typeface="Arial"/>
              </a:rPr>
              <a:t>TEAM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4120" y="1295280"/>
            <a:ext cx="0" cy="5562720"/>
          </a:xfrm>
          <a:prstGeom prst="line">
            <a:avLst/>
          </a:prstGeom>
          <a:ln w="28440">
            <a:solidFill>
              <a:srgbClr val="43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o attacks Pip at the Sluice House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olge Orlick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code the hidden message…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retg teaixapcotsn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yb ahelcrs kesnicd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3e1ff"/>
                </a:solidFill>
                <a:latin typeface="Comic Sans MS"/>
              </a:rPr>
              <a:t>Great Expectations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3e1ff"/>
                </a:solidFill>
                <a:latin typeface="Comic Sans MS"/>
              </a:rPr>
              <a:t>By Charles Dickens</a:t>
            </a:r>
            <a:endParaRPr b="0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hat month was it when Pip, Herbert, Magwitch, and Startop are on the riv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rc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t was one of those march days when the sun shines hot and the wind blows cold- when it is summer in the light and winter in the shade.”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 flipH="1" flipV="1">
            <a:off x="9144000" y="-7632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 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ow badly did Orlick hurt Pip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Question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e hurt his arm, but he had no major injuri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tur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4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Retur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Stephen Torrance User</cp:lastModifiedBy>
  <dcterms:modified xsi:type="dcterms:W3CDTF">2009-03-17T22:54:08Z</dcterms:modified>
  <cp:revision>22</cp:revision>
  <dc:subject/>
  <dc:title>Are You Smarter  Than a 5th Grader?</dc:title>
</cp:coreProperties>
</file>